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EAC-072B-4469-83FE-BEFC5773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7BA-2DB8-4495-93A0-96E5CB93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733-A793-4652-AABC-E84A89E9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EB5-8ED9-4EB1-A401-B3739E4B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0FC0-DB2A-40BE-B7FD-70312A25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8EB7-1751-4F06-8138-BD0EED7C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94D3-228F-41E3-938D-52C7DBF0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423F-889E-439B-867C-92314B5C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42AF-5E12-4770-A5E4-42DB31A7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DCE0-938C-4B72-982F-86257E12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D3C6-2D2F-4C4D-92C3-5AB05630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3E7-257E-4CEA-A8AA-5B231D78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694F-B544-40BE-8F1C-967FD892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22DF-F849-4DD1-ADCC-C370FEC5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FB15-A73B-49C2-8F1E-CD487C1E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042A-7E34-418A-8C82-AB557F42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B28C-0007-4BD5-907C-B5FFDBFD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9229-BBD3-4344-BA14-4A0048E3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9FE1-2AC7-407B-BF6E-EA23EE3C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8A566-45EB-4AF7-9679-92573144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BABFA-CBCF-49AA-B67A-F71BE33E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40A0-19A9-46C7-B4CB-1B7B6B8E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A1F-B364-4F84-9BBE-E20A9B20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DEEAE-D927-431A-B7D1-5B90BAF8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6F98F-8C23-4035-AA4C-6004A5A7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1A67F-006F-4FE6-BBF2-B4C2DF66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AE114-3B50-45B0-B593-58029D1A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85D09-E1F0-491D-9DA9-26086F67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722D7-EDA6-473C-B856-D5E73492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A647A-0D3C-4FC5-9877-0E52BEED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4B90D-ADB1-4888-8D4C-A66B2763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6F3B1-E954-44B1-A481-2BA5A90C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DE0DC-FCB7-4B1E-9B22-7A9EABAE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07B-0847-4C13-B79E-CDD060F9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04C1-6877-4442-950C-BE15C034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29735-599A-4307-9CF2-C96AE9CD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D70D3-AECE-46F0-9582-ADF366DA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0FF34-0BD8-4718-B97E-CD86C505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2A75E-BDAE-40BD-819D-30899B39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4A80-327B-4E26-AD27-26E9D3C7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17A40-C672-4BB2-B21F-EC9C6219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F27AC-FB3F-4022-96E0-90C281F7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F3757-1271-420A-97A4-E30BDBFA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EE5-4138-48F2-8F36-247667FF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2B0-6097-49AD-A046-1300F47F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583-3158-4896-9B70-DDDC0F61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4CD-9ADB-4DF0-9402-247903A3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95E-8675-4AE4-B148-A610FC2C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37B1-C39C-4276-B7F0-25EC6C23F0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19CE-5CD6-40E4-B116-8282F0F23B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6B63-149F-4708-BDAB-5613DA7EC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7126-D308-45C4-A48B-85AB85F81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vm.usu.edu/en/nav/vlibrary.html" TargetMode="External"/><Relationship Id="rId3" Type="http://schemas.openxmlformats.org/officeDocument/2006/relationships/hyperlink" Target="http://nlvm.usu.edu/en/nav/vlibrary.html" TargetMode="External"/><Relationship Id="rId4" Type="http://schemas.openxmlformats.org/officeDocument/2006/relationships/hyperlink" Target="http://nlvm.usu.edu/en/nav/vlibrary.html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center.k12.mo.us/Edtech/everydaymath.htm" TargetMode="External"/><Relationship Id="rId3" Type="http://schemas.openxmlformats.org/officeDocument/2006/relationships/hyperlink" Target="http://illuminations.nctm.org/Activities.aspx?grade=1&amp;grade=2&amp;grade=3&amp;grade=4" TargetMode="External"/><Relationship Id="rId4" Type="http://schemas.openxmlformats.org/officeDocument/2006/relationships/hyperlink" Target="http://www.shodor.org/interactivate/" TargetMode="External"/><Relationship Id="rId5" Type="http://schemas.openxmlformats.org/officeDocument/2006/relationships/hyperlink" Target="http://www.shodor.org/interactivate/" TargetMode="External"/><Relationship Id="rId6" Type="http://schemas.openxmlformats.org/officeDocument/2006/relationships/hyperlink" Target="http://www.shodor.org/interactivate/" TargetMode="Externa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bistar.4teachers.org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school.discovery.com/schrockguide/assess.html#web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uzzlemaker.school.discovery.com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4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Wednesday, March 26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Web 2.0,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Learning and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 the World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Stud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authorship / particip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riou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Collaborativ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communities of lear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3000240" cy="2251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courages student-centered,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constructivis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hands-on,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informa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learn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Legitimize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students as producers / aut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467000" cy="53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7712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52120" y="152352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ffers students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option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contro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v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motes PBL’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roblem Based Learning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roject Based Learning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assion Based Learning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467000" cy="539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47712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Blog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student auth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Wiki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collaborative work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Podcast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audio / video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Media-shar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tagged photos and vid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Flickr &amp; You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Social Network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shar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MySpace &amp; Pic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RS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aggregator; information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Virtual world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digit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Second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Social Annotation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sharing notes on web-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Di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Virtual Workspac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interacti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haring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Vyew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Virtual Math Manipulative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343400" y="3276720"/>
            <a:ext cx="3857760" cy="291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904760" y="228564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be an effective </a:t>
            </a: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assistiv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technolog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milar to gaming; inter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ous levels, strands,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inesthetic learners benefit grea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Virtual Manipul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057400" y="2133720"/>
            <a:ext cx="358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ational Libr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f 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anipu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st known, most ex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Virtual Manipul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5867280" y="2590920"/>
            <a:ext cx="2943360" cy="202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- "Did You Know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web 2.0? – the read/writ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2.0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based Math Manipu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roach to assessment - Rubric builders on-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e013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318"/>
                </a:solidFill>
                <a:latin typeface="Arial"/>
              </a:rPr>
              <a:t>Discussion: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Given the changing nature of information, can teachers be effective educators without changing too?</a:t>
            </a:r>
            <a:br>
              <a:rPr sz="2400"/>
            </a:b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286000" y="2514600"/>
            <a:ext cx="6324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veryday Math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CTM Illum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hodo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teract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Virtual Manipul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2133720" y="990360"/>
            <a:ext cx="62481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Rubric-based Assessment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629400" y="3733920"/>
            <a:ext cx="1438200" cy="21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752480" y="2286000"/>
            <a:ext cx="7010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formance-based (authentic)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ves away from traditional assessment means (test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752120" y="175212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acher and / or student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acher and / or peer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st when known up-front of activity – allows students to tail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ubi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-line tool for teachers (and students) to develop rubrics for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257800" y="3809880"/>
            <a:ext cx="3600360" cy="2336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scove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ady-made rubrics, web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 easily ada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5181480" y="2514600"/>
            <a:ext cx="3276720" cy="203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Puzzlemaker…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uzzle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tes many puzzl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uzzl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2209680" y="4191120"/>
            <a:ext cx="6553440" cy="167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7010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it possible to be a good teacher without using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a teacher serve his/her students in the best way possible without using technology, or do the realities of today’s student demand that teachers accept and utilize technology in their teac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 we simply expecting too much from our teachers and our student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209320" y="3805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What is…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5638680" cy="406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 do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Blog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504960" y="2742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Web 2.0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224480" y="39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52480" y="20570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Web 1.0”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web-based services that was primarily read-only by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nowledge /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acces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key to web pub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e-way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53368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52480" y="20570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Second generati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f web-ba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mphasis on on-line sharing and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2.0”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hints at improved or upgrade to original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53368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828440" y="23623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Web 2.0”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“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Read – writ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” web-based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cess for ever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Shar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/ two-way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53368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904760" y="23623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Every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n be an 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tie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changing global economic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Participator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/ democra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53368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3-26T19:27:53Z</dcterms:modified>
  <cp:revision>40</cp:revision>
  <dc:subject/>
  <dc:title>Welcome to  ED3862</dc:title>
</cp:coreProperties>
</file>